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222C-75EF-4DA2-8D56-6B5298D44BFA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曾發表文章者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愛因斯坦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1921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物理獎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波耳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1922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物理獎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克里克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na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結構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1962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生理醫學獎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讀者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美國總統，彼得杜拉克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張忠謀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李遠哲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專家群：學術顧問召集人李遠哲，榮譽社長曾志朗，總編輯李家維（清大生命科學系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科博館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孔祥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沈君山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吳茂昆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李政道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王秋桂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王道還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內容：宇宙最新觀察（可住星球），保護水資源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ars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專輯…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等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與生活貼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自製內容：科學大師專欄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曾志朗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周成功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清大生科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王孟亮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興獸醫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延伸釋義與報導，人物專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BB0-FACD-4892-AE69-27CDB0B8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665-505A-4990-B9EE-EEE454C9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10D-860C-4700-8792-4ABDDFD5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45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45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13C-5F8A-4E77-BA7F-0B123823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38F8-82FF-471D-917B-F9106749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29D4-29B8-4A2F-9C26-6E4B4137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24B5-E329-4F4B-B0D2-40D18226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1DC5-9599-4BE3-9784-1EEFA7CD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C78F-7266-493A-98F7-F6943325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120" y="304560"/>
            <a:ext cx="80010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D2F1-C6F5-4D00-AE1C-F39AD4CE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8C2C-3D47-4652-8A79-0987EB05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7AC-F2B5-45E8-8665-1A63641F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E88B-029C-4008-807F-2FD9C93F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9924-139B-487D-ABFD-93C83501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F38E-C71B-458F-962C-3EB9FD6A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A720-21AC-4CB2-9EC0-15C09348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45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99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45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99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9311-E39B-4091-A82A-7DA279EB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661-9441-404D-8777-D432FB8A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3FD-3EA4-471A-BB3A-601972D3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F08-B446-45F8-88CD-5E44D009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304560"/>
            <a:ext cx="80010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20E-762E-4041-8337-AE676048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401-9EF0-46FE-ACB3-9B5DDF9B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A29-7E9F-49AE-8287-FD7139CF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480-0EB4-4718-BBE2-D49DEEB4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39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36F5-C293-45C9-A39A-0DEAD894080D}" type="slidenum">
              <a:rPr b="0" lang="zh-TW" sz="1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39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1676520"/>
            <a:ext cx="75438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D965-528C-405F-92D2-264B810611D3}" type="slidenum">
              <a:rPr b="0" lang="zh-TW" sz="1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科學人雜誌知識庫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Scientific American Online</a:t>
            </a:r>
            <a:br>
              <a:rPr sz="3600"/>
            </a:b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中英對照版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5105520"/>
            <a:ext cx="5791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(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遠流集團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)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智慧藏學習科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標題與作、譯者檢索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08120" y="1447920"/>
          <a:ext cx="6012000" cy="34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8120" y="1447920"/>
                    <a:ext cx="6012000" cy="34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85800" y="5213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請輸入欲檢索的標題、作者或譯者，可利用欄位間做交集</a:t>
            </a: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(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AND)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、</a:t>
            </a: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聯集</a:t>
            </a: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(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OR)</a:t>
            </a: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等組合檢索；此外，亦可同時指定年月範圍，並設定檢索結果的排序方式與每頁資料筆數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知識分類瀏覽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85920" y="1295280"/>
          <a:ext cx="6715080" cy="40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295280"/>
                    <a:ext cx="671508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838080" y="5486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可勾選一項或數項知識分類進行文章檢索，並可利用欄位間做交集</a:t>
            </a: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(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AND)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、</a:t>
            </a: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聯集</a:t>
            </a: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(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OR)</a:t>
            </a: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等組合查詢；亦可加上文章年月區間設定，縮小查詢範圍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文章目錄頁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09480" y="1973160"/>
          <a:ext cx="800100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73160"/>
                    <a:ext cx="800100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990720" y="3429000"/>
            <a:ext cx="7315200" cy="838080"/>
          </a:xfrm>
          <a:prstGeom prst="rect">
            <a:avLst/>
          </a:prstGeom>
          <a:noFill/>
          <a:ln cap="sq" w="57240">
            <a:solidFill>
              <a:srgbClr val="f30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81680" y="1752120"/>
            <a:ext cx="0" cy="1676520"/>
          </a:xfrm>
          <a:prstGeom prst="line">
            <a:avLst/>
          </a:prstGeom>
          <a:ln cap="sq" w="38160">
            <a:solidFill>
              <a:srgbClr val="f30d0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5715000"/>
            <a:ext cx="0" cy="380880"/>
          </a:xfrm>
          <a:prstGeom prst="line">
            <a:avLst/>
          </a:prstGeom>
          <a:ln cap="sq" w="38160">
            <a:solidFill>
              <a:srgbClr val="f30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5715000"/>
            <a:ext cx="0" cy="380880"/>
          </a:xfrm>
          <a:prstGeom prst="line">
            <a:avLst/>
          </a:prstGeom>
          <a:ln cap="sq" w="38160">
            <a:solidFill>
              <a:srgbClr val="f30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6095880"/>
            <a:ext cx="6400800" cy="0"/>
          </a:xfrm>
          <a:prstGeom prst="line">
            <a:avLst/>
          </a:prstGeom>
          <a:ln cap="sq" w="38160">
            <a:solidFill>
              <a:srgbClr val="f30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10666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本期封面、封面專題簡介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172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文章標題分類、標題、作者、譯者、出版年月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20110107-0084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924680" cy="42674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文章瀏覽畫面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2819520"/>
            <a:ext cx="1067040" cy="304560"/>
          </a:xfrm>
          <a:prstGeom prst="rect">
            <a:avLst/>
          </a:prstGeom>
          <a:noFill/>
          <a:ln cap="sq" w="28440">
            <a:solidFill>
              <a:srgbClr val="f30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819520"/>
            <a:ext cx="1067040" cy="304560"/>
          </a:xfrm>
          <a:prstGeom prst="rect">
            <a:avLst/>
          </a:prstGeom>
          <a:noFill/>
          <a:ln cap="sq" w="28440">
            <a:solidFill>
              <a:srgbClr val="f30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2590920"/>
            <a:ext cx="2514600" cy="152280"/>
          </a:xfrm>
          <a:prstGeom prst="rect">
            <a:avLst/>
          </a:prstGeom>
          <a:noFill/>
          <a:ln cap="sq" w="28440">
            <a:solidFill>
              <a:srgbClr val="f30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3124080"/>
            <a:ext cx="0" cy="2590920"/>
          </a:xfrm>
          <a:prstGeom prst="line">
            <a:avLst/>
          </a:prstGeom>
          <a:ln cap="sq" w="38160">
            <a:solidFill>
              <a:srgbClr val="f30d0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3200400"/>
            <a:ext cx="0" cy="2590920"/>
          </a:xfrm>
          <a:prstGeom prst="line">
            <a:avLst/>
          </a:prstGeom>
          <a:ln cap="sq" w="38160">
            <a:solidFill>
              <a:srgbClr val="f30d0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743200"/>
            <a:ext cx="0" cy="3048120"/>
          </a:xfrm>
          <a:prstGeom prst="line">
            <a:avLst/>
          </a:prstGeom>
          <a:ln cap="sq" w="38160">
            <a:solidFill>
              <a:srgbClr val="f30d0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開啟本文之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PD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57913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開啟「科學小字典」之隨點隨查功能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5791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拉下選單，可直接點閱本期其他文章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2514600"/>
            <a:ext cx="1066680" cy="304920"/>
          </a:xfrm>
          <a:prstGeom prst="rect">
            <a:avLst/>
          </a:prstGeom>
          <a:noFill/>
          <a:ln cap="sq" w="28440">
            <a:solidFill>
              <a:srgbClr val="f30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7467480" y="1143000"/>
            <a:ext cx="0" cy="13716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3049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中文</a:t>
            </a: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英文</a:t>
            </a: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中英模式切換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科學小字典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66680" y="1600200"/>
            <a:ext cx="1852560" cy="3124080"/>
            <a:chOff x="1066680" y="1600200"/>
            <a:chExt cx="1852560" cy="31240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1066680" y="1600200"/>
              <a:ext cx="18525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 txBox="1"/>
            <p:nvPr/>
          </p:nvSpPr>
          <p:spPr>
            <a:xfrm>
              <a:off x="1066680" y="1600200"/>
              <a:ext cx="1852560" cy="31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ffcc66"/>
                </a:buClr>
                <a:buSzPct val="90000"/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572000" y="1676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659040" y="1600200"/>
            <a:ext cx="1827360" cy="3124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400800" y="1600200"/>
            <a:ext cx="1781280" cy="3048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971800" y="2895480"/>
            <a:ext cx="457200" cy="0"/>
          </a:xfrm>
          <a:prstGeom prst="line">
            <a:avLst/>
          </a:prstGeom>
          <a:ln cap="sq" w="57240">
            <a:solidFill>
              <a:srgbClr val="f30d0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2895480"/>
            <a:ext cx="457200" cy="0"/>
          </a:xfrm>
          <a:prstGeom prst="line">
            <a:avLst/>
          </a:prstGeom>
          <a:ln cap="sq" w="57240">
            <a:solidFill>
              <a:srgbClr val="f30d0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5181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1. 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請輸入關鍵字，並按「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go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51814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2. 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顯示所有相關詞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51814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3. 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點選詞條名稱連結，即可察看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科學人雜誌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知識庫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944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eb00b"/>
                </a:solidFill>
                <a:latin typeface="Times New Roman"/>
                <a:ea typeface="新細明體"/>
              </a:rPr>
              <a:t>科學人雜誌的歷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eaeaea"/>
                </a:solidFill>
                <a:latin typeface="標楷體"/>
                <a:ea typeface="標楷體"/>
              </a:rPr>
              <a:t>1845</a:t>
            </a:r>
            <a:r>
              <a:rPr b="0" lang="zh-TW" sz="3000" spc="-1" strike="noStrike">
                <a:solidFill>
                  <a:srgbClr val="eaeaea"/>
                </a:solidFill>
                <a:latin typeface="標楷體"/>
                <a:ea typeface="標楷體"/>
              </a:rPr>
              <a:t>年，愛迪生和萊特兄弟尚未誕生的年代，</a:t>
            </a:r>
            <a:r>
              <a:rPr b="0" lang="en-AU" sz="3000" spc="-1" strike="noStrike">
                <a:solidFill>
                  <a:srgbClr val="eaeaea"/>
                </a:solidFill>
                <a:latin typeface="標楷體"/>
                <a:ea typeface="標楷體"/>
              </a:rPr>
              <a:t>Scientific American</a:t>
            </a:r>
            <a:r>
              <a:rPr b="0" lang="zh-TW" sz="3000" spc="-1" strike="noStrike">
                <a:solidFill>
                  <a:srgbClr val="eaeaea"/>
                </a:solidFill>
                <a:latin typeface="標楷體"/>
                <a:ea typeface="標楷體"/>
              </a:rPr>
              <a:t>雜誌已在紐約創辦。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eaeaea"/>
                </a:solidFill>
                <a:latin typeface="標楷體"/>
                <a:ea typeface="標楷體"/>
              </a:rPr>
              <a:t>Scientific American</a:t>
            </a:r>
            <a:r>
              <a:rPr b="0" lang="zh-TW" sz="3000" spc="-1" strike="noStrike">
                <a:solidFill>
                  <a:srgbClr val="eaeaea"/>
                </a:solidFill>
                <a:latin typeface="標楷體"/>
                <a:ea typeface="標楷體"/>
              </a:rPr>
              <a:t>雜誌是全球最受敬重也最受歡迎的科普雜誌，全球科學家智慧與卓見的發表園地，已有一百多位</a:t>
            </a:r>
            <a:r>
              <a:rPr b="0" lang="zh-TW" sz="3000" spc="-1" strike="noStrike">
                <a:solidFill>
                  <a:srgbClr val="eeb00b"/>
                </a:solidFill>
                <a:latin typeface="標楷體"/>
                <a:ea typeface="標楷體"/>
              </a:rPr>
              <a:t>諾貝爾獎得主</a:t>
            </a:r>
            <a:r>
              <a:rPr b="0" lang="zh-TW" sz="3000" spc="-1" strike="noStrike">
                <a:solidFill>
                  <a:srgbClr val="eaeaea"/>
                </a:solidFill>
                <a:latin typeface="標楷體"/>
                <a:ea typeface="標楷體"/>
              </a:rPr>
              <a:t>在此發表文章。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科學人雜誌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知識庫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eb00b"/>
                </a:solidFill>
                <a:latin typeface="新細明體"/>
                <a:ea typeface="新細明體"/>
              </a:rPr>
              <a:t>科學人雜誌的地位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標楷體"/>
                <a:ea typeface="標楷體"/>
              </a:rPr>
              <a:t>Scientific American</a:t>
            </a:r>
            <a:r>
              <a:rPr b="0" lang="zh-TW" sz="3600" spc="-1" strike="noStrike">
                <a:solidFill>
                  <a:srgbClr val="eaeaea"/>
                </a:solidFill>
                <a:latin typeface="標楷體"/>
                <a:ea typeface="標楷體"/>
              </a:rPr>
              <a:t>雜誌是全球媒體、學生、研究者所最常引用的科普雜誌，甚至美國總統及國家科技顧問都以其做為科學決策的參考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標楷體"/>
                <a:ea typeface="標楷體"/>
              </a:rPr>
              <a:t>創刊</a:t>
            </a:r>
            <a:r>
              <a:rPr b="0" lang="zh-TW" sz="3600" spc="-1" strike="noStrike">
                <a:solidFill>
                  <a:srgbClr val="eaeaea"/>
                </a:solidFill>
                <a:latin typeface="標楷體"/>
                <a:ea typeface="標楷體"/>
              </a:rPr>
              <a:t>160</a:t>
            </a:r>
            <a:r>
              <a:rPr b="0" lang="zh-TW" sz="3600" spc="-1" strike="noStrike">
                <a:solidFill>
                  <a:srgbClr val="eaeaea"/>
                </a:solidFill>
                <a:latin typeface="標楷體"/>
                <a:ea typeface="標楷體"/>
              </a:rPr>
              <a:t>多年來，擁有九種語文版本，英語版的全球發行量超過七十萬冊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科學人雜誌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知識庫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eb00b"/>
                </a:solidFill>
                <a:latin typeface="Times New Roman"/>
                <a:ea typeface="新細明體"/>
              </a:rPr>
              <a:t>知識庫內容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標楷體"/>
                <a:ea typeface="標楷體"/>
              </a:rPr>
              <a:t>收錄</a:t>
            </a:r>
            <a:r>
              <a:rPr b="0" lang="zh-TW" sz="3600" spc="-1" strike="noStrike">
                <a:solidFill>
                  <a:srgbClr val="eaeaea"/>
                </a:solidFill>
                <a:latin typeface="標楷體"/>
                <a:ea typeface="標楷體"/>
              </a:rPr>
              <a:t>2002</a:t>
            </a:r>
            <a:r>
              <a:rPr b="0" lang="zh-TW" sz="3600" spc="-1" strike="noStrike">
                <a:solidFill>
                  <a:srgbClr val="eaeaea"/>
                </a:solidFill>
                <a:latin typeface="標楷體"/>
                <a:ea typeface="標楷體"/>
              </a:rPr>
              <a:t>年迄今的科學人雜誌中文版內容，每個月更新前三個月的資料</a:t>
            </a:r>
            <a:r>
              <a:rPr b="0" lang="en-US" sz="3600" spc="-1" strike="noStrike">
                <a:solidFill>
                  <a:srgbClr val="eaeaea"/>
                </a:solidFill>
                <a:latin typeface="標楷體"/>
                <a:ea typeface="標楷體"/>
              </a:rPr>
              <a:t>。</a:t>
            </a:r>
            <a:r>
              <a:rPr b="0" lang="zh-TW" sz="3600" spc="-1" strike="noStrike">
                <a:solidFill>
                  <a:srgbClr val="eaeaea"/>
                </a:solidFill>
                <a:latin typeface="標楷體"/>
                <a:ea typeface="標楷體"/>
              </a:rPr>
              <a:t>並可瀏覽文字或</a:t>
            </a:r>
            <a:r>
              <a:rPr b="0" lang="en-US" sz="3600" spc="-1" strike="noStrike">
                <a:solidFill>
                  <a:srgbClr val="eaeaea"/>
                </a:solidFill>
                <a:latin typeface="標楷體"/>
                <a:ea typeface="標楷體"/>
              </a:rPr>
              <a:t>PDF</a:t>
            </a:r>
            <a:r>
              <a:rPr b="0" lang="zh-TW" sz="3600" spc="-1" strike="noStrike">
                <a:solidFill>
                  <a:srgbClr val="eaeaea"/>
                </a:solidFill>
                <a:latin typeface="標楷體"/>
                <a:ea typeface="標楷體"/>
              </a:rPr>
              <a:t>雜誌版面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標楷體"/>
                <a:ea typeface="標楷體"/>
              </a:rPr>
              <a:t>科學文章類別：生物科技、資訊科學、物理學、生命科學、心理學、哲學、考古、化學…等</a:t>
            </a:r>
            <a:r>
              <a:rPr b="0" lang="zh-TW" sz="3600" spc="-1" strike="noStrike">
                <a:solidFill>
                  <a:srgbClr val="eeb00b"/>
                </a:solidFill>
                <a:latin typeface="標楷體"/>
                <a:ea typeface="標楷體"/>
              </a:rPr>
              <a:t>多元領域</a:t>
            </a:r>
            <a:r>
              <a:rPr b="0" lang="zh-TW" sz="3600" spc="-1" strike="noStrike">
                <a:solidFill>
                  <a:srgbClr val="eaeaea"/>
                </a:solidFill>
                <a:latin typeface="標楷體"/>
                <a:ea typeface="標楷體"/>
              </a:rPr>
              <a:t>，以難易適中的文字搭配精美插圖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科學人雜誌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知識庫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eb00b"/>
                </a:solidFill>
                <a:latin typeface="新細明體"/>
                <a:ea typeface="新細明體"/>
              </a:rPr>
              <a:t>代表性科學專題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太陽能、斷臂也能再生、禽流感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男腦女腦真不同、地球的極限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當媽媽更聰明、長壽基因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創意從哪裡來、暫時停止生命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eb00b"/>
                </a:solidFill>
                <a:latin typeface="新細明體"/>
                <a:ea typeface="新細明體"/>
              </a:rPr>
              <a:t>加值內容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增加</a:t>
            </a:r>
            <a:r>
              <a:rPr b="0" lang="zh-TW" sz="3200" spc="-1" strike="noStrike">
                <a:solidFill>
                  <a:srgbClr val="eeb00b"/>
                </a:solidFill>
                <a:latin typeface="標楷體"/>
                <a:ea typeface="標楷體"/>
              </a:rPr>
              <a:t>科學小字典</a:t>
            </a: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功能，收錄各項科技術語，並經該領域專家審訂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科學人雜誌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知識庫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eb00b"/>
                </a:solidFill>
                <a:latin typeface="Times New Roman"/>
                <a:ea typeface="新細明體"/>
              </a:rPr>
              <a:t>產品功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eb00b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eeb00b"/>
                </a:solidFill>
                <a:latin typeface="標楷體"/>
                <a:ea typeface="標楷體"/>
              </a:rPr>
              <a:t>科學入門最佳指南，中英對照隨時切換</a:t>
            </a: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：科學人雜誌之作者均為各學術領域菁英，並擅長“</a:t>
            </a:r>
            <a:r>
              <a:rPr b="0" lang="zh-TW" sz="3200" spc="-1" strike="noStrike">
                <a:solidFill>
                  <a:srgbClr val="eeb00b"/>
                </a:solidFill>
                <a:latin typeface="標楷體"/>
                <a:ea typeface="標楷體"/>
              </a:rPr>
              <a:t>科普寫作</a:t>
            </a: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”方式，兼顧科學深度與文字通俗性。中英文隨時切換，增強科普英文能力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eb00b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eeb00b"/>
                </a:solidFill>
                <a:latin typeface="標楷體"/>
                <a:ea typeface="標楷體"/>
              </a:rPr>
              <a:t>網頁格式閱讀，</a:t>
            </a:r>
            <a:r>
              <a:rPr b="0" lang="en-US" sz="3200" spc="-1" strike="noStrike">
                <a:solidFill>
                  <a:srgbClr val="eeb00b"/>
                </a:solidFill>
                <a:latin typeface="標楷體"/>
                <a:ea typeface="標楷體"/>
              </a:rPr>
              <a:t>PDF</a:t>
            </a:r>
            <a:r>
              <a:rPr b="0" lang="zh-TW" sz="3200" spc="-1" strike="noStrike">
                <a:solidFill>
                  <a:srgbClr val="eeb00b"/>
                </a:solidFill>
                <a:latin typeface="標楷體"/>
                <a:ea typeface="標楷體"/>
              </a:rPr>
              <a:t>版本列印，</a:t>
            </a: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：本知識庫除了「</a:t>
            </a:r>
            <a:r>
              <a:rPr b="0" lang="zh-TW" sz="3200" spc="-1" strike="noStrike">
                <a:solidFill>
                  <a:srgbClr val="eeb00b"/>
                </a:solidFill>
                <a:latin typeface="標楷體"/>
                <a:ea typeface="標楷體"/>
              </a:rPr>
              <a:t>網頁</a:t>
            </a: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格式」之外，並提供「</a:t>
            </a:r>
            <a:r>
              <a:rPr b="0" lang="en-US" sz="3200" spc="-1" strike="noStrike">
                <a:solidFill>
                  <a:srgbClr val="eeb00b"/>
                </a:solidFill>
                <a:latin typeface="標楷體"/>
                <a:ea typeface="標楷體"/>
              </a:rPr>
              <a:t>PDF</a:t>
            </a: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格式」以保留雜誌原始的圖文編排，方便使用者列印閱讀與存檔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科學人雜誌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知識庫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eb00b"/>
                </a:solidFill>
                <a:latin typeface="Times New Roman"/>
                <a:ea typeface="新細明體"/>
              </a:rPr>
              <a:t>產品功能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eb00b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eeb00b"/>
                </a:solidFill>
                <a:latin typeface="標楷體"/>
                <a:ea typeface="標楷體"/>
              </a:rPr>
              <a:t>三大檢索功能</a:t>
            </a: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：「標題檢索」、「作譯者檢索」、「全文檢索」，每一種檢索方式均提供交叉查詢功能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eb00b"/>
                </a:solidFill>
                <a:latin typeface="標楷體"/>
                <a:ea typeface="標楷體"/>
              </a:rPr>
              <a:t>4.</a:t>
            </a:r>
            <a:r>
              <a:rPr b="0" lang="zh-TW" sz="3200" spc="-1" strike="noStrike">
                <a:solidFill>
                  <a:srgbClr val="eeb00b"/>
                </a:solidFill>
                <a:latin typeface="標楷體"/>
                <a:ea typeface="標楷體"/>
              </a:rPr>
              <a:t>「科學小字典」翻譯精準</a:t>
            </a: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：為協助使用者能更有效吸收科技新知，我們特別將文章中的各類科學術語及專有名詞整理出來，除了列出中英文對照外，並列出其屬性及參考資料。</a:t>
            </a:r>
            <a:r>
              <a:rPr b="0" lang="zh-TW" sz="2400" spc="-1" strike="noStrike">
                <a:solidFill>
                  <a:srgbClr val="eaeaea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3356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335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80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  <a:ea typeface="新細明體"/>
              </a:rPr>
              <a:t>進入本知識庫之後，您將看到下列主畫面：</a:t>
            </a:r>
            <a:r>
              <a:rPr b="0" lang="zh-TW" sz="1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040" y="4724280"/>
            <a:ext cx="830592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</a:t>
            </a:r>
            <a:r>
              <a:rPr b="1" lang="zh-TW" sz="2000" spc="-1" strike="noStrike">
                <a:solidFill>
                  <a:srgbClr val="eaeaea"/>
                </a:solidFill>
                <a:latin typeface="新細明體"/>
                <a:ea typeface="新細明體"/>
              </a:rPr>
              <a:t>選擇「</a:t>
            </a:r>
            <a:r>
              <a:rPr b="1" lang="zh-TW" sz="2000" spc="-1" strike="noStrike">
                <a:solidFill>
                  <a:srgbClr val="eeb00b"/>
                </a:solidFill>
                <a:latin typeface="新細明體"/>
                <a:ea typeface="新細明體"/>
              </a:rPr>
              <a:t>開始檢索</a:t>
            </a:r>
            <a:r>
              <a:rPr b="1" lang="zh-TW" sz="2000" spc="-1" strike="noStrike">
                <a:solidFill>
                  <a:srgbClr val="eaeaea"/>
                </a:solidFill>
                <a:latin typeface="新細明體"/>
                <a:ea typeface="新細明體"/>
              </a:rPr>
              <a:t>」您將可直接以查詢的方式，找到您想閱讀的資料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         </a:t>
            </a:r>
            <a:r>
              <a:rPr b="1" lang="zh-TW" sz="2000" spc="-1" strike="noStrike">
                <a:solidFill>
                  <a:srgbClr val="eaeaea"/>
                </a:solidFill>
                <a:latin typeface="新細明體"/>
                <a:ea typeface="新細明體"/>
              </a:rPr>
              <a:t>選擇「</a:t>
            </a:r>
            <a:r>
              <a:rPr b="1" lang="zh-TW" sz="2000" spc="-1" strike="noStrike">
                <a:solidFill>
                  <a:srgbClr val="eeb00b"/>
                </a:solidFill>
                <a:latin typeface="新細明體"/>
                <a:ea typeface="新細明體"/>
              </a:rPr>
              <a:t>資料庫簡介</a:t>
            </a:r>
            <a:r>
              <a:rPr b="1" lang="zh-TW" sz="2000" spc="-1" strike="noStrike">
                <a:solidFill>
                  <a:srgbClr val="eaeaea"/>
                </a:solidFill>
                <a:latin typeface="新細明體"/>
                <a:ea typeface="新細明體"/>
              </a:rPr>
              <a:t>」將幫助您了解本產品的基本資料及製作過程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新細明體"/>
                <a:ea typeface="新細明體"/>
              </a:rPr>
              <a:t>         </a:t>
            </a:r>
            <a:r>
              <a:rPr b="1" lang="zh-TW" sz="2000" spc="-1" strike="noStrike">
                <a:solidFill>
                  <a:srgbClr val="eaeaea"/>
                </a:solidFill>
                <a:latin typeface="新細明體"/>
                <a:ea typeface="新細明體"/>
              </a:rPr>
              <a:t>選擇「</a:t>
            </a:r>
            <a:r>
              <a:rPr b="1" lang="zh-TW" sz="2000" spc="-1" strike="noStrike">
                <a:solidFill>
                  <a:srgbClr val="eeb00b"/>
                </a:solidFill>
                <a:latin typeface="新細明體"/>
                <a:ea typeface="新細明體"/>
              </a:rPr>
              <a:t>操作說明</a:t>
            </a:r>
            <a:r>
              <a:rPr b="1" lang="zh-TW" sz="2000" spc="-1" strike="noStrike">
                <a:solidFill>
                  <a:srgbClr val="eaeaea"/>
                </a:solidFill>
                <a:latin typeface="新細明體"/>
                <a:ea typeface="新細明體"/>
              </a:rPr>
              <a:t>」將可幫助您了解基本的檢索方式，和圖示的功能。</a:t>
            </a:r>
            <a:r>
              <a:rPr b="0" lang="zh-TW" sz="20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SA首頁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6372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介面基本配置說明</a:t>
            </a:r>
            <a:endParaRPr b="1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SA介面圖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115320" cy="3772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14800" y="2590920"/>
            <a:ext cx="3276720" cy="22860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2743200"/>
            <a:ext cx="38088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243828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索引瀏覽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2819520"/>
            <a:ext cx="1752840" cy="22860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76720"/>
            <a:ext cx="289548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312408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快速檢索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048120"/>
            <a:ext cx="0" cy="2286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438280"/>
            <a:ext cx="838080" cy="15264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2133360"/>
            <a:ext cx="0" cy="144756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1143000"/>
            <a:ext cx="2361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線上操作手冊及知識庫背景資料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124080"/>
            <a:ext cx="914400" cy="12193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990360" y="3657600"/>
            <a:ext cx="2286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048120"/>
            <a:ext cx="1066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查詢小幫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手</a:t>
            </a:r>
            <a:r>
              <a:rPr b="0" lang="zh-TW" sz="18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,</a:t>
            </a:r>
            <a:r>
              <a:rPr b="0" lang="zh-TW" sz="18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幫助使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用者迅速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了解檢索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的方法和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秘訣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3657600"/>
            <a:ext cx="2133360" cy="22860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238880" y="1828440"/>
            <a:ext cx="0" cy="6858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16002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目錄瀏覽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4038480"/>
            <a:ext cx="3657600" cy="198144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6019920"/>
            <a:ext cx="0" cy="3808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6248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內容瀏覽區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02:17:46Z</dcterms:created>
  <dc:creator>kalen</dc:creator>
  <dc:description/>
  <dc:language>en-US</dc:language>
  <cp:lastModifiedBy>jj</cp:lastModifiedBy>
  <dcterms:modified xsi:type="dcterms:W3CDTF">2011-01-07T10:00:00Z</dcterms:modified>
  <cp:revision>123</cp:revision>
  <dc:subject/>
  <dc:title>PowerPoint 簡報</dc:title>
</cp:coreProperties>
</file>