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345-DEE9-414F-A5A6-127E835F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696-7B87-49E2-A9C1-636865D9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E0E-FFA1-4A25-A6A7-0BDF6AE5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0A0-0F64-4871-8373-F3543E3D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370-B7D4-48B3-8E48-A87059D1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7B1-D9F6-4CED-BDD6-AB1E46EB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29C-75B5-4198-A4AC-2ADD1E66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B26-E01A-4D04-B244-7D64C6BC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A41-97A7-4175-B5E3-6AAFB951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E82-6BAE-4B7F-AAE4-6B758091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AE6-6809-4DBA-A584-3E52706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56B-1404-4AC9-A8CF-D2117370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5DCB-AC51-467C-B75A-5E698438836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9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大英百科線上全文學生版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英文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大英百科線上全文學生版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英文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共收錄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51,80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個詞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分為三個學習層級：國小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Primary School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國中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Middle School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高中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Senior High School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）。每一學習層級都有特別規劃的頁面，適合各層級學生瀏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豐富的加值內容：除詞條內容外，還收錄報紙雜誌文章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、精選網站、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erriam-Webster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英英字典與世界國家分析等資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大英百科線上全文學生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英文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首頁功能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ndex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734080" cy="547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1295280"/>
            <a:ext cx="449604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1676520"/>
            <a:ext cx="2209680" cy="176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99"/>
                </a:solidFill>
                <a:latin typeface="Times New Roman"/>
              </a:rPr>
              <a:t>點選進入各功能連結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回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首頁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、 使用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字典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、 瀏覽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學習素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、 尋找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教師使用資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、 進入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工作區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使用手冊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協助資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1447920"/>
            <a:ext cx="3045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4572000"/>
            <a:ext cx="213372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搜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空白欄輸入關鍵字後按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「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GO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」即可快速搜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648320" y="4571640"/>
            <a:ext cx="22096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505320"/>
            <a:ext cx="2286000" cy="21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99"/>
                </a:solidFill>
                <a:latin typeface="Times New Roman"/>
              </a:rPr>
              <a:t>選擇最適合的學習程度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國小請點選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Primary School ;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國中請點選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Middle School ;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高中請點選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Senior High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295280" y="2819160"/>
            <a:ext cx="1828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大英百科線上全文學生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英文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br>
              <a:rPr sz="3200"/>
            </a:b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檢索結果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age-1" descr=""/>
          <p:cNvPicPr/>
          <p:nvPr/>
        </p:nvPicPr>
        <p:blipFill>
          <a:blip r:embed="rId1"/>
          <a:stretch/>
        </p:blipFill>
        <p:spPr>
          <a:xfrm>
            <a:off x="914400" y="1033560"/>
            <a:ext cx="5791320" cy="582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1752480"/>
            <a:ext cx="11430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1676520"/>
            <a:ext cx="236232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加值內容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(Additional Content)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報紙雜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相關主題文章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大英簡明百科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相關詞條、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精選其他優值網站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3962520"/>
            <a:ext cx="1143000" cy="25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962520"/>
            <a:ext cx="22860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多媒體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(Multimedia)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列出相關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相片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插圖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地圖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與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影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419112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4495680"/>
            <a:ext cx="220968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學習素材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(Learning Materials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相關的學習素材會列於多媒體下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72200" y="64008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大英百科線上全文學生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英文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檢索結果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詞條內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age-senior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41008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320" y="2209680"/>
            <a:ext cx="350496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1523880"/>
            <a:ext cx="20574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輔助功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可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儲存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列印網頁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列印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文章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轉寄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572000"/>
            <a:ext cx="25146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延伸研究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(Expand Your Research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點選欲延伸閱讀的類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924440"/>
            <a:ext cx="2286000" cy="131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相關之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多媒體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內容顯示於網頁左方，如圖片可放大於圖片框右下方會出現放大鏡圖示，點選即可放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6553080" y="2895120"/>
            <a:ext cx="53352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52480"/>
            <a:ext cx="175248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目錄表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針對較長文章會以系統化架構來說明，可直接點選欲閱讀之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2362320"/>
            <a:ext cx="114300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大英百科線上全文學生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英文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檢索結果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詞條內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age-2-button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0080" cy="5389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3733920"/>
            <a:ext cx="22860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分級閱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如欲閱讀其他程度的文章，可在此點選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410080"/>
            <a:ext cx="55627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4495680"/>
            <a:ext cx="6098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886200"/>
            <a:ext cx="220968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再次檢索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(Search Again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如欲檢索其他詞條可直接在此輸入關鍵字，點選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「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GO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」即可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66720" y="5181480"/>
            <a:ext cx="2667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大英百科線上全文學生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英文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學習素材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earning%20material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99932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248520" y="1828800"/>
            <a:ext cx="2590560" cy="228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每個知識主題都有其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學習素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並且分成不同類別，如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互動課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Interactive Lessons)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學習指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Study Guides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練習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Exercises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601992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（如無法開啟任何學習素材，請檢查是否未安裝所需之外掛程式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209680"/>
            <a:ext cx="2057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習素材共有四個知識主題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數學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科學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英文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社會科學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每一知識主題下還有次分類，如欲觀看其他主題的學習素材，可在此點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657600"/>
            <a:ext cx="68580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大英百科線上全文學生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英文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學習素材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earinging%20materials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58280" cy="478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4952880"/>
            <a:ext cx="36576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選學習素材後會另開視窗，每一類別的學習素材操作方式有所不同，請先閱讀操作指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000000"/>
                </a:solidFill>
                <a:latin typeface="Times New Roman"/>
              </a:rPr>
              <a:t>上網操作介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3:53:26Z</dcterms:created>
  <dc:creator>peichi</dc:creator>
  <dc:description/>
  <dc:language>en-US</dc:language>
  <cp:lastModifiedBy>jj</cp:lastModifiedBy>
  <dcterms:modified xsi:type="dcterms:W3CDTF">2009-12-21T06:36:04Z</dcterms:modified>
  <cp:revision>13</cp:revision>
  <dc:subject/>
  <dc:title>大英線上學校版</dc:title>
</cp:coreProperties>
</file>